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D85-39C7-43F2-B4C9-E632D865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4505-D18D-4944-B3FD-D0FFE5F6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0C1-AAF7-4953-923F-FB616DD3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19A3-61D6-4267-B485-E607C381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DAB9-25FB-4861-8873-D1B956D0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C65E-41C7-4757-AAED-BA464470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8E0-EF19-4E03-B3F9-ACEAB76C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E965-2450-4C2E-BF01-5090361B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A84E-2C71-4180-9E23-CA71EBDB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A11-380F-4B34-B875-AB8025AE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23D5-8741-4134-97C3-4ABCA587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532-AE29-446A-8F66-72CA7966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fd2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fd29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EB1C-CF51-44ED-B2F0-8C9D595FB9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ypes of Conflict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riters build tension in their stories to make them interesting.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is tension is caused by a conflict or problem.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ere are many different types of conflicts that writers can use.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Different Types of Conflict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ometimes, two characters have a conflict with each other.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ometimes a character has a conflict within himself, such as overcoming a fear.</a:t>
            </a:r>
            <a:br>
              <a:rPr sz="3200"/>
            </a:b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Other times a character has to deal with things in nature, such as surviving a storm.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ink about the adventure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stories that we have read.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fd293"/>
                </a:solidFill>
                <a:latin typeface="Arial"/>
              </a:rPr>
              <a:t>Ali, Child of the Desert</a:t>
            </a:r>
            <a:r>
              <a:rPr b="0" lang="en-US" sz="3000" spc="-1" strike="noStrike">
                <a:solidFill>
                  <a:srgbClr val="dfd293"/>
                </a:solidFill>
                <a:latin typeface="Arial"/>
              </a:rPr>
              <a:t> - conflict with nature </a:t>
            </a:r>
            <a:endParaRPr b="0" lang="en-US" sz="3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8" name="brave%20irene" descr=""/>
          <p:cNvPicPr/>
          <p:nvPr/>
        </p:nvPicPr>
        <p:blipFill>
          <a:blip r:embed="rId1"/>
          <a:stretch/>
        </p:blipFill>
        <p:spPr>
          <a:xfrm>
            <a:off x="5043600" y="2362320"/>
            <a:ext cx="1052280" cy="1295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28280" y="2463840"/>
            <a:ext cx="2384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fd293"/>
                </a:solidFill>
                <a:latin typeface="Arial"/>
              </a:rPr>
              <a:t>Brave Ire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fd293"/>
                </a:solidFill>
                <a:latin typeface="Arial"/>
              </a:rPr>
              <a:t>William Stei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ali%20child%20of%20the%20desert" descr=""/>
          <p:cNvPicPr/>
          <p:nvPr/>
        </p:nvPicPr>
        <p:blipFill>
          <a:blip r:embed="rId2"/>
          <a:stretch/>
        </p:blipFill>
        <p:spPr>
          <a:xfrm>
            <a:off x="5638680" y="4218120"/>
            <a:ext cx="1143000" cy="1496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00560" y="4446720"/>
            <a:ext cx="3969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fd293"/>
                </a:solidFill>
                <a:latin typeface="Arial"/>
              </a:rPr>
              <a:t>Ali, Child of the Dese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fd293"/>
                </a:solidFill>
                <a:latin typeface="Arial"/>
              </a:rPr>
              <a:t>Jonathan Lond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752480"/>
            <a:ext cx="815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fd293"/>
                </a:solidFill>
                <a:latin typeface="Arial"/>
              </a:rPr>
              <a:t>Brave Irene</a:t>
            </a:r>
            <a:r>
              <a:rPr b="0" lang="en-US" sz="3000" spc="-1" strike="noStrike">
                <a:solidFill>
                  <a:srgbClr val="dfd293"/>
                </a:solidFill>
                <a:latin typeface="Arial"/>
              </a:rPr>
              <a:t> - conflict with na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5867280"/>
            <a:ext cx="8153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fd293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dfd293"/>
                </a:solidFill>
                <a:latin typeface="Arial"/>
              </a:rPr>
              <a:t>A Lasso for Adagio” - conflict with natur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66680" y="2285640"/>
            <a:ext cx="6858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In a journey story, most often the main character has to deal with a conflict against the forces of nature.</a:t>
            </a: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ink about the story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at you are creating.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hat forces of nature will your character have to overcome?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rite a few paragraphs in your notebook about the difficulties your character might have with nature.</a:t>
            </a:r>
            <a:br>
              <a:rPr sz="3600"/>
            </a:b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Be prepared to share at the end of the workshop.</a:t>
            </a: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0:00:23Z</dcterms:created>
  <dc:creator>AAPS</dc:creator>
  <dc:description/>
  <dc:language>en-US</dc:language>
  <cp:lastModifiedBy>Carrie Dworkin</cp:lastModifiedBy>
  <dcterms:modified xsi:type="dcterms:W3CDTF">2005-08-16T21:28:13Z</dcterms:modified>
  <cp:revision>4</cp:revision>
  <dc:subject/>
  <dc:title>Types of Conflict </dc:title>
</cp:coreProperties>
</file>